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D7D4-1791-407E-9B2C-3A11B4182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558E-5867-43DF-85DA-978782255C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20A3-B854-42C2-B5E8-E5E0ED27B0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9A45-4146-4FC5-A0E9-FBDCA607BB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05EF-52C0-4160-8962-E692473F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ADC5-A618-4F5B-9A54-A7769012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700-97BD-4478-9073-1DAE644D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44C-81E9-4A14-B701-3DC9820D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1AF-1A05-4522-BDFA-AD2B2D29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F1B-7BB1-4F98-89CB-251C3E06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BDC-2B03-40A1-B101-182E99DC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23CE-D4A6-4E88-BF0F-A348F931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F57B-AD0B-459E-A445-8CDC504C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CB4-B269-4A48-A4A5-5A56B6A7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0E6-6BFB-495A-A1AD-50FD776C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CFA-6CDD-4452-B3E9-A6D35DE7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F755-A53B-48F3-9AF6-D983C55F8704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he Earth as a System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rth’s Sphe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arth’s Spher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4120" y="2438280"/>
            <a:ext cx="36576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tmosp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drosp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thosp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osp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yosp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hrosphe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Lithospher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Earth's solid surface, often called the crust of the earth. It includes continental and oceanic crust as well as the various layers of the Earth's in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0" name="Picture 4" descr="geosphere"/>
          <p:cNvPicPr/>
          <p:nvPr/>
        </p:nvPicPr>
        <p:blipFill>
          <a:blip r:embed="rId1"/>
          <a:stretch/>
        </p:blipFill>
        <p:spPr>
          <a:xfrm>
            <a:off x="5105520" y="1905120"/>
            <a:ext cx="3516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Hydrospher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791320" y="2286000"/>
            <a:ext cx="31240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of the water on Ear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71% of the earth is covered by water and only 29% is terra firm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4" descr="hydrosphere"/>
          <p:cNvPicPr/>
          <p:nvPr/>
        </p:nvPicPr>
        <p:blipFill>
          <a:blip r:embed="rId1"/>
          <a:stretch/>
        </p:blipFill>
        <p:spPr>
          <a:xfrm>
            <a:off x="228600" y="2209680"/>
            <a:ext cx="53895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tmospher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gaseous sphere and it envelopes the Earth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ists of a mixture of gases composed primarily of nitrogen, oxygen, carbon dioxide, and water vapo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" name="Picture 5" descr="atmosphere"/>
          <p:cNvPicPr/>
          <p:nvPr/>
        </p:nvPicPr>
        <p:blipFill>
          <a:blip r:embed="rId1"/>
          <a:stretch/>
        </p:blipFill>
        <p:spPr>
          <a:xfrm>
            <a:off x="3733920" y="2514600"/>
            <a:ext cx="52578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Biospher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8840" y="1828800"/>
            <a:ext cx="38862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life on earth, including man, and all organism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life zone on our planet distinguishes our planet from the others in the solar system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Picture 4" descr="biosphere"/>
          <p:cNvPicPr/>
          <p:nvPr/>
        </p:nvPicPr>
        <p:blipFill>
          <a:blip r:embed="rId1"/>
          <a:stretch/>
        </p:blipFill>
        <p:spPr>
          <a:xfrm>
            <a:off x="152280" y="2133720"/>
            <a:ext cx="4800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ryospher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3392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portion of the Earth's surface where water is in a solid for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now or ice: includes glaciers, ice shelves, snow, icebergs, and arctic climatolo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0" name="Picture 4" descr="cryosphere"/>
          <p:cNvPicPr/>
          <p:nvPr/>
        </p:nvPicPr>
        <p:blipFill>
          <a:blip r:embed="rId1"/>
          <a:stretch/>
        </p:blipFill>
        <p:spPr>
          <a:xfrm>
            <a:off x="4343400" y="2006640"/>
            <a:ext cx="46483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nthrospher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33526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 and his direct ancestors, hominid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human population, it’s buildings,dams, and other construct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4" descr="anthrosphere"/>
          <p:cNvPicPr/>
          <p:nvPr/>
        </p:nvPicPr>
        <p:blipFill>
          <a:blip r:embed="rId1"/>
          <a:stretch/>
        </p:blipFill>
        <p:spPr>
          <a:xfrm>
            <a:off x="228600" y="2438280"/>
            <a:ext cx="4952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nterconnected Spher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heres are closely connec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nges are often chain reac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change in one sphere results in changes in others - called an ev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est fire destroys plants in an are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992160" y="44197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5" descr="essInteractions"/>
          <p:cNvPicPr/>
          <p:nvPr/>
        </p:nvPicPr>
        <p:blipFill>
          <a:blip r:embed="rId1"/>
          <a:stretch/>
        </p:blipFill>
        <p:spPr>
          <a:xfrm>
            <a:off x="3352680" y="4267080"/>
            <a:ext cx="250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1T21:40:40Z</dcterms:created>
  <dc:creator>Mary Ellsworth</dc:creator>
  <dc:description/>
  <dc:language>en-US</dc:language>
  <cp:lastModifiedBy>hberndt</cp:lastModifiedBy>
  <dcterms:modified xsi:type="dcterms:W3CDTF">2008-09-24T20:13:36Z</dcterms:modified>
  <cp:revision>9</cp:revision>
  <dc:subject/>
  <dc:title>The Earth as a System</dc:title>
</cp:coreProperties>
</file>